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4281-08EF-4826-9F06-C3182DCB6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yrrolate maybe preferred due to no crossing 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add one on top of another for better result (study:  oxycodone on top of long acting MS hel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ergan for gastroenteritis due to infections and infl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tes antiemetic effects of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9B4-33BD-468A-B81F-66BB6CD1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26E-A792-4BD1-9618-F2CB80DC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BAC-15C2-4DEF-8CED-E8DD2C87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659-B96D-4D18-AC9E-B5F4B771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371-FAA6-4175-B163-60893BCF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E82-7C99-4FF2-8531-6FE8FE7B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C84-6C89-45FA-95DC-E0F7A16E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5A0-E942-46E4-A37A-89A1F6E6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837-72E1-4D69-A519-35B44F9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B83-7D9F-4463-A954-C2375DBD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822-514A-4359-AAB2-F1B6F3B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226-C89B-431D-80A7-805DC1E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4BC-0B27-40A8-9B11-2D3059D8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 Management in Palliative Care: 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.akin@hsd.cccounty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cancer patients (21-7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 can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Dementi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% terminal HIV/AID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% CH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% CO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AL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CV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Goal in terminally ill:  Improve subjective sensation expressed b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order to do that you must think about caus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nterventions may be consistent with patient’s goals of c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 they may not b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chospasm:  Nebs and stero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s: Stop IVF, diuretics, antibio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usions: T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way obstruction:  Change diet? S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ck secretions: Thin wi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ine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saline (3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-Glycopyrro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NAC (mucomys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opola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p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lgobin low:  Transfusio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E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xiety:   *Sit upright, bedside fan,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enzos if primary anxiety (if anxious becau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o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ersonal issues: emo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ous concerns: emotional suppor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conn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lain/spiritual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positioning: vertical (if comfortable)…or compromised lung down if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activity level (bathroom aids, wheelch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 on pursed lip 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(?stim V2, decreasing dyspnea per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trong o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oom cool…humi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/friends at bed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: 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receptor response to elevated 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odilitation/preload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bulized opoids?  Not y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to use?  Probably doesn’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ne 2.5-5 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 2.5-5mg PO q 4 h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codone 5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morphone 1-2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 12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:  Interestingly, there is no clear evidence that O2 works to relieve dyspnea any better than air…even in hypoxemic patients (studies po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olytics: Anxiety us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ysp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f 5 RCTs found no benefit of benzos in dysp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 more for refractory dyspnea worsened by anxiety symptoms…(although some try when one cannot titrate the opioid up further due to side eff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azepam is probab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(fast onset of action, and lasts 4-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pic: 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ic insufficienc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bolic abnormalit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wel ob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I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oid induced n/v (stimulation of CT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d nausea tends to be self-limited wit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or severe symptoms, change to other opi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ong acting opioids to lessen the potential fluctuation of levels which can stimulate the C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operidol* (Haldol:  THE most potent anti-dopiner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hlorperazine* (compazine: Potent anti-dopa, weak anti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ethazine* (phenergan: Antihistamine, weak anti-d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olamine (especially if vestibular symp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henhydramine (benadryl….Careful in elde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the metabolic de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Dopamine antagonists*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control:  That was part #1 of this talk…e-mail me for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tep: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one on opioids gets DSS + cathartic (senna, ducol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ation, physica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velops despite prophyl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/o obstruction (rectal exa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mpaction helped by mineral oil, glycerine supp, saline en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reat with osmotic laxative (lactulose, PEG, Mag 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too nauseated to take 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Phos (fleet) e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ocodyl sup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ory constipation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stig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 antago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naloxone (?systemic absor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 methylnaltrexone (selective peripheral antagon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tili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distension (gastric st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n pts on opioids/anticholiner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s c/o early satiet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 (not fasting n/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clopramide (5-10mg PO qHS and qAC…or higher):  don’t use in renal failure, Parkin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Promethazine (phenergan)…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anticholine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rexia or increased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 (2-4mg PO bid-Q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ory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: Lorezepam (0.5-2mg q 6 hrs)…avoid as single agent (very weak antiem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tibular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ol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thazine (Phenerg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otherapy induced nausea/vomi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HT3 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ndansetron 4-8mg q 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in postoperative setting, or sometimes after other agents have failed.  Can cause mild headache,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S (Anorexia Cachexia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body weight (muscle mass and fat) in the setting of cancer…predicts 3-6 month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vs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norexia/cachexia at the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end result of metabolic, neuroendocrine cascade (ketones, uremia, etc)…part of dis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universal in the dy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cause of considerable concern for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of treat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tr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herapeutic relationship with patient/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social aspects of eating (pleasure, nurturing, bonding experi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, Education,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ble cau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st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atrogenic (XRT, chem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tite stimu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to use…mostly when underlying cause cannot be addressed, and in setting of being consistent with patient’s goals of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ime limited “therapeutic trial” in selected patients after discussing goals of care (goal might be to gain strength/independence which can be reevaluated weekly for a few wee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esterol acetate (meg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for AIDS associated w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muscle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” weight (of &gt;5% in only 15-20% of patients) by increasing water retention and fat deposition…over 6-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rvival benefit…risk of thromb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cide to use it, use elixir (cheaper, easier), start at 400mg dail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mg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icosteroids (dexamethasone, predniso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emporary effect (up to a few weeks) on appetite without increase in body mass…used mostly if prognosis measured in weeks and if other target symptoms might respond to steroids also (nausea, bronchospasm, bon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energy for brief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effects!  (mood swings, elevated BP, inc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if no benefit within a week or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Palliative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:  numbers hover around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th that all dying patients “should” be depressed, and it is a “normal” part of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diagn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ians fearful of upsetting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treated:  only 10% in on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:  Data mixed and routine use not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cosapentaenoic acid (omega 3 fish o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lidomide (in HIV/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aton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abinoids…(i.e. dronabin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rgu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lyte problem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ing patients more comfortable if hydrated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holding fluid might set precedent for withholding other therapies which might be appropriate (patients labeled “comfort care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rguments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 evidence fluids significantly prolong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feres with acceptance of de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UO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need for bed pain, urinal, fo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GI flui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vom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pulm secretions/cough/congestion/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lectrolyte disturbances/uremia may lead to decreased level of consciousn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ff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av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be feeding death spi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dmited for massive stroke/urosepsis with advanced underlying 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swallow/aspirating/losing weigh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be f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gitated with NG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T replac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aints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iration PNA develop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ed to ICU/pulse 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NA 3-4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:  recognize and treat at end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psychostimi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 = subjective sensation.  Goal of therapy is patient telling you they ar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underlying cause (if appropr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 are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/vomit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ause before t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is medication related which is most effectively treated with Dopamine antagonis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dol &gt;Compazine &gt; Phener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e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s not tha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ness, grief, depressed mood, and feeling of loss are all appropriate responses to dying…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ings of hopelessness, worthlessness, helplessness, guilt, no desire for pleasure…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NOT a normal part of d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an illness, with symptoms that need to be recognized and 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Diagnose De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-IV….But not really set up for the medically ill.  Many depressive symptoms in medically ill patients may be a result of their medical illness or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simple 1-2 word screening to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dep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you been depressed for most of the time for the past 2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above + loss of interest of usual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lieve uncontrolled symptoms (pain, nausea, dyspne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social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ologic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: 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data in palliative car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en treating depression in other settings, use side ef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or appetite/insomnia:  Mirtazapine (Remer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uropathic/other pain:  TCAs, duloxet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ymbalta), venlafaxine (effex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Fatigue/psychomotor slowing:  activating SSR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luoxitine, venlafazine) or psychostimu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default” is probably an SSRI…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Last Weeks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RIs need 4-6 weeks to work, so why start one if your patient is in last weeks of l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pychostimulants such as methylphenidate (Ritalin) or modafinil (Provig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apid onset of action (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low (2.5 of methlyphenidate daily) and titrate upwards slo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see effect after 1-2 d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mfort in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lessn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ness of br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fortable awareness of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pnea is a SUBJECTIVE sensation, for which the standard of assessment is the patient’s self-report (different from tachypnea which is an OBJECTIVE, measured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31:27Z</dcterms:created>
  <dc:creator>Health Services Department</dc:creator>
  <dc:description/>
  <dc:language>en-US</dc:language>
  <cp:lastModifiedBy>Health Services Department</cp:lastModifiedBy>
  <dcterms:modified xsi:type="dcterms:W3CDTF">2010-04-09T17:34:36Z</dcterms:modified>
  <cp:revision>17</cp:revision>
  <dc:subject/>
  <dc:title>Symptom Management in Palliative Care:  Part 2</dc:title>
</cp:coreProperties>
</file>